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25CA-F795-45B1-8F1E-BAECCE598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DBD-9E6A-4E91-9647-92EF6287B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256-44DD-4CC2-B4B8-B98C7C14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642-9F5E-449A-B157-E4DA5B25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DEA-7FE2-417C-AEB2-DFB519A9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89E-A8C3-43C5-B182-21521CFF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8B7-8E6C-487F-A2D8-6A6213B0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3B1-C2D4-4C5C-B49E-1A393846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EC6-8133-4B74-906A-C3061731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F0E-E1BE-4CEE-BA4E-B36FB789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1EF-F0EE-4BB1-9D19-1B7FF5BB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4EE-A0B7-4665-8AB9-532C8263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658-3580-41F4-913E-E6A1226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745-09E1-4C80-82C6-B7CF5E39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CB6A-E603-45AE-BD25-E0FA64B0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ra Mucoll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ra Mucoll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ra Mucollar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ra Mucollar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ra Mucollar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Sara. Yo vivo en la ciudad de New York. Tengo 14 años. Yo tengo dos herman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733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puedo comer pizza?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Buenos dias!                                                                                        Sar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én quiere comer pizz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4:01:12Z</dcterms:created>
  <dc:creator>FriscoISD</dc:creator>
  <dc:description/>
  <dc:language>en-US</dc:language>
  <cp:lastModifiedBy>NYCDOE</cp:lastModifiedBy>
  <dcterms:modified xsi:type="dcterms:W3CDTF">2012-12-05T14:16:54Z</dcterms:modified>
  <cp:revision>102</cp:revision>
  <dc:subject/>
  <dc:title>Profile</dc:title>
</cp:coreProperties>
</file>